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05A-60B0-46BD-A1B3-C38A02CE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B04-BC4B-458A-9CC2-6C7F2697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C6E-D7D1-41F6-B67A-E9B90826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21E-838D-4429-B4B5-A4114AB0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6FA-B447-4968-BCD0-C2B40BAF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DF9-4F1C-4AB7-B831-304E8F38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066-1582-4154-8BC3-BAAC8F1D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34E-9217-49FF-9BD4-F720F499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A6C-E705-4740-9E58-E20558C0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8D6-0079-443E-B747-DE35341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F01-1FAA-47A6-A7FC-8661BB6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28D-1169-4F4D-A63E-22BCF7C7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7A0F-1F61-47DB-9951-472F32D3D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179280"/>
            <a:ext cx="896472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947880"/>
            <a:ext cx="8424720" cy="4332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60360" y="611352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. Schwetz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2160" y="42084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ée des dégénérescences par LBL + AT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timization of Proton Beam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457200" y="1600200"/>
          <a:ext cx="8229600" cy="474336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proton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osci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cil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ins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ignifi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/ (N</a:t>
                      </a:r>
                      <a:r>
                        <a:rPr b="0" lang="en-US" sz="2000" spc="-1" strike="noStrike" baseline="-25000">
                          <a:solidFill>
                            <a:srgbClr val="339933"/>
                          </a:solidFill>
                          <a:latin typeface="Times New Roman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000" spc="-1" strike="noStrike" baseline="30000">
                          <a:solidFill>
                            <a:srgbClr val="339933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7469280" y="6521400"/>
            <a:ext cx="1748880" cy="33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ampagne + Ca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172200"/>
            <a:ext cx="77277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0% Increase in significance at higher energy: 3.5 or 4.5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0160" y="20808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74920"/>
            <a:ext cx="4559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2008080"/>
            <a:ext cx="4162320" cy="335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 flipV="1">
            <a:off x="2895120" y="2895480"/>
            <a:ext cx="228600" cy="10670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1280" y="35812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809880" y="3733560"/>
            <a:ext cx="763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590560"/>
            <a:ext cx="6094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33600" y="320688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P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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km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0"/>
            <a:ext cx="77724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bining SPL and </a:t>
            </a:r>
            <a:r>
              <a:rPr b="0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6600" y="616572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22:36Z</dcterms:created>
  <dc:creator>J.E Campagne</dc:creator>
  <dc:description/>
  <dc:language>en-US</dc:language>
  <cp:lastModifiedBy>J.E Campagne</cp:lastModifiedBy>
  <dcterms:modified xsi:type="dcterms:W3CDTF">2005-04-26T12:23:40Z</dcterms:modified>
  <cp:revision>1</cp:revision>
  <dc:subject/>
  <dc:title>Diapositive 1</dc:title>
</cp:coreProperties>
</file>